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14C6-5654-4F38-A53B-F3A1B025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9328-5C49-494E-B98C-ADDA6C24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B857-D0D5-4D6A-BB2D-29A8727D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00E6-E649-40D0-A74F-3492F3B5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6B7-5546-4225-8E41-852CE462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DE90-87F6-4565-A992-6B10DEC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6E7E-D19D-4204-B779-7E8902B4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A1B-CBA4-461E-81D9-756A0DF0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06D-48AA-4E95-AC2D-82A3AB37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3B9-6208-471C-8BCB-141AF9DE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11CD-C685-46B0-B236-3ECD0D9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3870-1C2C-4094-9EAA-9D226796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CDD4-318B-4338-96B9-34F9260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2222-3171-4DE9-A075-5176CDD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E124-53E7-4F0D-85DB-5A5EE0B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0D1-03D9-4527-820E-01553E0D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DA73-097D-458C-B60F-09D77A5A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F4A8-2587-412E-8935-4E20F2D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733-8D7E-4F3F-8EEF-80A1183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7872-3E22-4049-9C86-2770ECAF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3FB0-BD21-4916-837C-A29F71F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F251-9F6D-4520-BD30-418140A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93D1-ABC4-46B3-839E-C089424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B7B3-A1C1-4532-BF97-76C7AC6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756-3AF6-4B90-AAB0-B1D835753C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DF6-89AF-4F31-9715-228CF9BE55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Me llamo ______________        Clase 802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La fecha es el 17 de mayo del 2016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0663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Propósito # 79: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Cómo terminamos la practica para el EXAMEN: UNIDAD 8 del LU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7030a0"/>
                </a:solidFill>
                <a:latin typeface="Calibri"/>
              </a:rPr>
              <a:t>L.O: to review for the unit ex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I- </a:t>
            </a: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pia y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hay en un pastel de cumpleañ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recibimos para nuestro cumpleañ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comes con que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 quieres ir a un concierto, ¿Qué necesit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iénes cant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iénes tocan instrumentos musica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12500" t="6273" r="18066" b="19727"/>
          <a:stretch/>
        </p:blipFill>
        <p:spPr>
          <a:xfrm>
            <a:off x="0" y="96840"/>
            <a:ext cx="846468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13126" t="8272" r="18069" b="19727"/>
          <a:stretch/>
        </p:blipFill>
        <p:spPr>
          <a:xfrm>
            <a:off x="76320" y="249120"/>
            <a:ext cx="838836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3733920" y="609480"/>
            <a:ext cx="541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320" y="106668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cribe en el PRETER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12500" t="5003" r="17729" b="24276"/>
          <a:stretch/>
        </p:blipFill>
        <p:spPr>
          <a:xfrm>
            <a:off x="0" y="0"/>
            <a:ext cx="8507520" cy="5389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76320" y="106668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I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733920" y="609480"/>
            <a:ext cx="541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12500" t="5003" r="18751" b="18092"/>
          <a:stretch/>
        </p:blipFill>
        <p:spPr>
          <a:xfrm>
            <a:off x="0" y="158760"/>
            <a:ext cx="8381880" cy="5861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733920" y="609480"/>
            <a:ext cx="4647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9144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IV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completa con la forma correcta del verbo en el preter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6320" y="1190520"/>
          <a:ext cx="9067680" cy="539460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371600"/>
                <a:gridCol w="1600200"/>
                <a:gridCol w="1638360"/>
                <a:gridCol w="1638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i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128"/>
          <p:cNvSpPr/>
          <p:nvPr/>
        </p:nvSpPr>
        <p:spPr>
          <a:xfrm>
            <a:off x="304920" y="533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V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njugate in the PRETE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8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area # 79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Cambria"/>
              </a:rPr>
              <a:t>Tarea # 79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TUDY FOR EXAM: UNIT 8 NEXT MONDAY!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y vocabul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rt vocabul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eum/movies vocabul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TERITO: Verbos ER/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TERITO: Verbos OI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to listen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&amp; LEE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to re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LABRAS AFIRMATIVAS: algo, alguien, siemp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LABRAS NEGATIVAS: nada, nadie, nun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CTURA CULTURAL: Un dia de cultura lat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21:56:24Z</dcterms:created>
  <dc:creator>Helen Zumaeta</dc:creator>
  <dc:description/>
  <dc:language>en-US</dc:language>
  <cp:lastModifiedBy>Helen Zumaeta</cp:lastModifiedBy>
  <cp:lastPrinted>2016-05-12T15:06:09Z</cp:lastPrinted>
  <dcterms:modified xsi:type="dcterms:W3CDTF">2016-05-17T17:43:59Z</dcterms:modified>
  <cp:revision>11</cp:revision>
  <dc:subject/>
  <dc:title>Me llamo _________        Clase 8IM La fecha es el 24 de enero del 2013</dc:title>
</cp:coreProperties>
</file>